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4B2-AD3E-40AF-B564-139C9D9F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9AD-F011-4E62-9EF6-6B10C373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B995-D114-4D17-B19A-B9574E0F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A99-65C9-4E3E-89CB-6032FC99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6E5AD-E21D-47C1-B716-2DEB0235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9AA78-9EFF-451E-AF6F-49A84DA9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58CCF-E9B7-4AD6-9ECD-C2D29908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C8D7F-DCED-4633-BD53-C7F0FAF4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F2EA1-CB21-497C-8BF0-218137D4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8B66E-7B25-429E-8F28-755D1A12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92E6E-099B-4149-BD26-E5BB2F0B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A80-7D1B-4F9C-9E5D-1762D6F6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26169-1590-4F0E-9804-463A4B6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F2920-6466-4BBB-B255-BDE32771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0A697-1B7F-4B51-80F7-DA2359B0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F108F-0277-46FB-87AE-0471F1A4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91C3D-05B9-4BAC-AFC6-ACDAA239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6B0-191E-498A-B37E-09E66018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0FA-0F56-40F2-9A84-8EE19985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DEB-8AD3-4CE5-8F08-1CB4DC79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144-C3BD-4854-8E67-0AFD8A05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DB6-63AF-4CD9-BED8-5D86C41F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BDC4-E27E-4425-A8BF-85E30704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369-465A-4996-870F-6D0F9BA3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81E3-ED1E-469F-9618-3153D28C99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F253-FAF5-4114-90B8-CC70E2E12A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13372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Designing A New Toy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6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eam analysi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instorm on your team’s efforts with a 2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. 1. What did we do wel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. 2. What could we have done different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, revisit your criteria, and critically evaluate your work by responding to each of thos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gratulate each other on your work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ore understandings</a:t>
            </a:r>
            <a:br>
              <a:rPr sz="6000"/>
            </a:b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t some key thinking strategies can be used to develop new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to transfer these strategies into real-life stu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t a team can create a much higher standard of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Some intro question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e a series of toys according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est level for different 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igi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right f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 a set of criteria to judge the worth of specific to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. Which toy would choose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eam Self-Regulation?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team is sensational, what could be the criteria for an analysis of your efforts e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gree of initiative / creativ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stantive listen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vel of engage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Over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have been chosen to take part in a very exciting challeng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major toy company has approached you, and asked you to develop an innovative new toy for the world mark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also must be prepared to work in a small team when you design this amazing new to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ome details for you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s new toy must have the follow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must be highly technologi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has to be fun to 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must appeal to people of all 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needs to be easy to u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 has to be reasonably che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1. Design your new toy.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re’s one strategy that you can use to come up with ideas for your to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The BAR strate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nd here’s another strategy you can us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It’s called the Ideas Matrix. To use it, just fill in the sections with combination produ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2895480"/>
          <a:ext cx="7772400" cy="2867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pt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bi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col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stwat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: To work with your tea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re going to use a strategy called Discuss: Publish: Shop: Re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Discuss: In your team, brainstorm lots of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Publish: Agree on a toy, and draw it on one of the large sh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Shop: Go and look at the other team’s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 Refine: Come back and improve y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5-10-25T21:29:1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